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applause.wav" ContentType="audio/x-wav"/>
  <Override PartName="/ppt/media/image10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1.png" ContentType="image/png"/>
  <Override PartName="/ppt/media/image16.png" ContentType="image/png"/>
  <Override PartName="/ppt/media/drumroll.wav" ContentType="audio/x-wav"/>
  <Override PartName="/ppt/media/image15.jpeg" ContentType="image/jpeg"/>
  <Override PartName="/ppt/media/image14.png" ContentType="image/png"/>
  <Override PartName="/ppt/media/image13.png" ContentType="image/png"/>
  <Override PartName="/ppt/media/explode.wav" ContentType="audio/x-wav"/>
  <Override PartName="/ppt/media/image6.png" ContentType="image/png"/>
  <Override PartName="/ppt/media/camera.wav" ContentType="audio/x-wav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417A-70AF-4B7F-BBFC-F50EE5FB7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dging by the photo a digital narrative would have something to do with a compu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s slide has a 20 sec. tim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A5D7-3A73-4C3E-A2BE-3741CE5EB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ay be saying to yourself, “What is a digital narrative?”  Well, let me tell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ound effect: digital camera – taking a pictu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for than one tool helps make your narrative more “real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D97A-1AC1-499E-B1CB-1EB00A2F8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school’s IT staff can hel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6FC2-B8D5-450E-A597-55738C4E6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thering materials ahead of time make your job easi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6920-DE0F-4D72-9430-57BE8FB68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ound effect: explosion – means “get to work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 about the process in order to better enable the stud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340C-FF30-4C05-874E-F0C8B0E5B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your reason for creating a “digital narrative”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0F65-03B3-41BB-A5F2-CCDE29BBF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my summary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C119-1698-4065-B023-E105DC906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of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5AA9-40B7-4F50-A693-93ACBEF0F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A49A-6B9D-4CD0-B5C1-DD70E495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BE3-00B3-4885-B05E-716A9DB3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BB9C-15B8-4AB1-A195-57A5EE4D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943D-CB2C-4570-9A7C-12398D2C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C752-1975-4358-B54C-23CC3388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8185-5A61-452D-996E-2B8D4FDD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366C-CCE4-40A0-89BA-EAC58697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80E5-3F75-4C98-8241-FC418433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0B7F-1F2E-472D-B4A7-1DBB9539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A98F-0ABE-42B8-A7E9-1F57E288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F935-0D98-4F16-9F3B-D595BC00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E43-3EAD-4348-9CC3-609E564F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4ED4-1D12-4254-B798-39A4A7B9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B736-97AC-42F5-8ACE-3E12B3D8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EEC0-7702-4DE5-AF8B-46D94C13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3AE8-D673-4991-BE42-CDDFF21A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275C-FDC7-406E-81C4-DB9E727D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A6397-9D92-408A-88AF-3DFDBF21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42C36-0B06-46E6-AACA-AC6090EC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33C8D-65D2-471D-BFE2-D7CFC58D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0031E-1318-4ED1-8F1E-0C98C2FF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AC792-73EE-408A-8D22-2CC31DFF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25A-48CA-483F-B306-F96F8468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3E888-C3DE-4114-AFED-82A82A56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59AB0-3F59-4160-8405-E3431800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8CBCC-BAE4-47D8-8A39-9663792C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B72EE-969C-413A-8BC0-F17DD45A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32A4B-18D0-4B96-8279-9434A0BB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9F7C7-A700-4257-B144-E5ADF60B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723AE-303A-44CA-AB17-74CDF303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0FF6D-9CBE-42C9-A989-0FAC3F15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A21DE-0FB1-47B3-BE24-582F0E75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28828-614C-403F-A071-3F877CFE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9029-B2A6-4D5D-9DEE-D12B2DCF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26AD9-EE72-4D95-8561-B29F46DE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A85E6-9CEE-4749-83B0-6C66C139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06952-26CB-4855-AEEC-31C02D76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3CE1B-D508-4E06-89A4-986BB9EB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E1B5C-B3B2-4973-94EB-13BD5452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997A9-86E5-414B-AC9E-74B175F7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11756-2B1A-4492-83B6-B127E711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7E942-596B-4CEF-8619-3A915BF5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383DD-8924-462B-9E4C-23DD3562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91E04-8CD4-4AFF-BFAA-2DC3AF6A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E68-AD88-40E7-A23E-0D2B3B99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62E3F-3473-402E-9750-D4CA61FF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53FB6-7F97-496A-A091-0B84D8F3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DCB46-8579-48AA-8AC8-5D023527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341F2-FA67-47C4-A50E-4CE67907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3E759-AC9D-4EB3-B0B5-DA18C050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8AC12-AE35-442D-8EEA-AC29402E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86CC0-032C-45B7-B807-484613EE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F9E07-B507-4F4F-8774-EEB342D5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13734-9962-4B7A-900D-B11B6583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291F2-21B5-40DC-8018-92956876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4718-BC1C-4E8F-8669-8C915C14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9B215-B844-4CAE-A42F-9CA89943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E2D12-CABB-46AA-B1C2-F1580E3E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7465B-9E7C-4A2C-BB36-D267AEAB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C75B0-525D-4A3F-8E7A-AD0280F0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D1368-111C-471B-A061-EFD9B9AD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300B2-24B9-43FC-A466-9E4E2598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58D53-591B-489A-8AB2-CD1CEF0B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DD7F3-6F25-4339-AACE-C41B580F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5FB96-44F4-41E3-AB29-AE09EE39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DBDCD-A1EE-4364-A4EE-34FE0B88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BDE8-558D-40E2-B63A-A7ED450D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6A43D-B12F-44BD-97CC-F567C988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72B20-1C06-43F9-9FB7-93A95986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5C824-A87D-44EA-AB93-D7897582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6A30-3274-47CD-AB3C-C8E73126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F88B-8365-4DCF-A9F7-046608FE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ADCD-5061-4F11-B847-5D1A9FF9F6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A55F-009D-4A5D-A185-AD554130DF3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29F9-C031-4E28-BD22-62F304E6CC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D15E-58D7-4D2B-BAB7-D0FDA05689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46AD-B7A8-4501-BABC-982A250D2E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545A-5FDD-4400-BAEE-E19C558308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1" descr=""/>
          <p:cNvPicPr/>
          <p:nvPr/>
        </p:nvPicPr>
        <p:blipFill>
          <a:blip r:embed="rId1"/>
          <a:stretch/>
        </p:blipFill>
        <p:spPr>
          <a:xfrm>
            <a:off x="480960" y="4870440"/>
            <a:ext cx="8364600" cy="1158840"/>
          </a:xfrm>
          <a:prstGeom prst="rect">
            <a:avLst/>
          </a:prstGeom>
          <a:ln w="0">
            <a:noFill/>
          </a:ln>
        </p:spPr>
      </p:pic>
      <p:sp>
        <p:nvSpPr>
          <p:cNvPr id="284" name="Title 1"/>
          <p:cNvSpPr/>
          <p:nvPr/>
        </p:nvSpPr>
        <p:spPr>
          <a:xfrm>
            <a:off x="45720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eating Effective Digital Narr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6" descr="C:\Users\Wallis\AppData\Local\Microsoft\Windows\Temporary Internet Files\Content.IE5\035E632S\MCBD09459_0000[1].wmf"/>
          <p:cNvPicPr/>
          <p:nvPr/>
        </p:nvPicPr>
        <p:blipFill>
          <a:blip r:embed="rId2"/>
          <a:stretch/>
        </p:blipFill>
        <p:spPr>
          <a:xfrm>
            <a:off x="4648320" y="2577960"/>
            <a:ext cx="3606840" cy="3641760"/>
          </a:xfrm>
          <a:prstGeom prst="rect">
            <a:avLst/>
          </a:prstGeom>
          <a:ln w="0">
            <a:noFill/>
          </a:ln>
        </p:spPr>
      </p:pic>
    </p:spTree>
  </p:cSld>
  <p:transition advTm="20000">
    <p:randomBar dir="vert"/>
    <p:sndAc>
      <p:stSnd>
        <p:snd r:embed="rId3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gital narrative” is simply a term used to identify a digital storytelling exercis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can be a lesson, a picture story, or any kind of story or storyboard created through the use of different kinds of software medi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Use more than one produ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reates a more compelling sto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ses best components from multiple appl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imited software choices may not provide needed too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Examples: Photo Story 3, Movie Maker, and PowerPoi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amera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Learn your school’s computer polic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hird-party softwa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xternal med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eripheral dev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Meet the technology facilitator and/or media special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earn easier implementation of lesson pla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ble to better use the school’s IT resour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Gather needed materi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hotograph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udio cli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ideo cli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Create pre-selected resource se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aximizes classroom ti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et’s students make their own cho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peeds the search proc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iminates teacher’s need to approve each students selec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Learn about the programs you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How does the program wor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here are the files stor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hat are the file type require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How do you modify the fi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Develop a scalable proc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oves easily from one computer to anoth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ave the students use a thumb dri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ime is not wasted when students switch comput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explode.wav"/>
      </p:stSnd>
    </p:sndAc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Digital narratives are more than files combined to tell a sto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2608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hanced instru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2608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velop stronger communication skil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2608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gage students in a new and exciting w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Set goals that you wish the students to accomplis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2608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ppreciation of completing a storytelling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2608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eater understanding of the creative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2608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mproved reading comprehen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2608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creased logical reasoning skil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Build goals into the pl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5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500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Photo from: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http://thejournal.com/Articles/2010/01/27/5-Ways-To-Enhance-Instruction-with-Digital-Narratives.aspx?Page=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Leverage Multiple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Get to Know Your School’s IT Sta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uild a Library of Ass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Implement a Workf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reate a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http://download.101com.com/CAM/Images/2010/20100125imovie300.jpg"/>
          <p:cNvPicPr/>
          <p:nvPr/>
        </p:nvPicPr>
        <p:blipFill>
          <a:blip r:embed="rId2"/>
          <a:stretch/>
        </p:blipFill>
        <p:spPr>
          <a:xfrm>
            <a:off x="1523880" y="1143000"/>
            <a:ext cx="5791320" cy="33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thejournal.com/Articles/2010/01/27/5-Ways-To-Enhance-Instruction-with-Digital-Narratives.aspx?Page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thejournal.com/Articles/2010/01/27/5-Ways-To-Enhance-Instruction-with-Digital-Narratives.aspx?Page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thedigitalnarrative.com/teaching%20method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werpoint clip art fil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23:23:37Z</dcterms:created>
  <dc:creator>itlstudent</dc:creator>
  <dc:description/>
  <dc:language>en-US</dc:language>
  <cp:lastModifiedBy>Wallis</cp:lastModifiedBy>
  <dcterms:modified xsi:type="dcterms:W3CDTF">2010-03-07T03:50:40Z</dcterms:modified>
  <cp:revision>25</cp:revision>
  <dc:subject/>
  <dc:title>Wallis Wesson</dc:title>
</cp:coreProperties>
</file>